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F76935-FDAB-4680-9011-75EFCBCEBD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3E5310-0C38-40EF-AFD6-4FB8D28FD1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democracy may have its faults, most people in democracies still believe it is the best form of government. (p.1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AC5100-687B-477C-9307-7BDE714664B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person, one vote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equate and equal opportunities to express their preferences through the decision-making process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e press and free speech. No group monopolizes the marketpla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vernment addresses issues important to the public as a whole, not a select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jority’s desire is to be respected, but those who do not belong to the majority are guaranteed righ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C3CD9F-2D32-4AE2-A23C-DC825A7BEB8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A8A90D-BBCD-4DEC-8E85-9864DC22433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role does the media play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8691C6-B9E2-46D9-A0BD-D51D091F44B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holds power and who influences the policies adopted by the government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government do what we want it to do? Government vs. individual responsibil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C55F7C-DBA7-40AD-AC8B-F40CFC0B60A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 focuses on wh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F7EA69-0A32-4698-B638-718BF216FB6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 focuses on wh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B4C587-5869-4D43-B319-DB8580DCD70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icy is not limited to laws passed by Congress. It may include executive decisions, Supreme Court rulings, budgetary choices, or bureaucratic regulation – see Table 1.1 on p.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48D93C-BE98-4907-B0DB-5DA34D40DC0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5DE9-564D-42D1-8832-3CCCCC358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F5C4-90A8-4558-AD80-B8DDBE08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C4C8-8D8A-4EBC-9AB8-59C05A223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A8CB-DDC9-437F-B56D-828B33B41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1E55-DB2E-4AE3-8F16-BC8DD66D6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9C20-C68E-4FB9-9094-789E2315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F957-DF27-4BCD-A847-E4F4E450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C1CC-95C3-4CD1-9B09-2DBF9BCE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BA99-F145-4B71-91E9-FCA55098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898A-3C29-401E-A114-EF5BF899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C56D-62A6-4E23-B1C2-CFB60E22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AFD6-F26A-4E1E-A713-20D102D5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C53E-C757-4AD6-AA36-EFB67839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8915-7C10-4AC5-9ECD-D6632F7D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913A-080B-4EC3-A1F0-77BDB620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553B-FBF0-4ED1-955A-55D9C8B05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1AEE6-E066-4B86-81CB-7CF08A585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B712-6E6D-4267-A769-BAD027F1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5BE1-DB2F-4D40-AA2D-17E33A0F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AE8C-2834-4023-990A-A542187E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802B-C1CE-42C9-A386-FE98FFE8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B79D-C761-44FD-BAB8-A601F65A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5E4C-B0BF-4D93-8C7E-BB3FA2A6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948E-6A73-46A5-A24F-74023836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6C9603-715B-40EF-8679-1CBA84A4ECFB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B81317-B442-44C6-864B-BEB5B74079F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A072F7-53F3-4EBD-B0D9-BD415510ACAF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EC324E-E62B-41B4-AF1B-1655E20CB2F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roducing Government in Americ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Screen shot 2011-08-23 at 4.53.02 PM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mocracy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438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system of selecting policymakers and of organizing government so that policy represents and responds to the public’s preference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5181480" y="2023920"/>
            <a:ext cx="317340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mocratic The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quality in Voting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ffective Participation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nlightened Understand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itizen Control of the Agend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clusion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jority Rule vs. Minority Righ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mocracy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ree Theories of American Democracy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Pluralist Theory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olitics is a competition among group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 one group domina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Elite Theory: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 upper-class elite control government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Hyperpluralism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ny strong groups competing hinder government’s ability to perform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hallenges to Democracy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d Technical Expertis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ard for citizens to make well-informed decision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mited Participation in Governmen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mericans know little about leaders and policy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scalating Campaign Cost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nection between money and politic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creased influence of PAC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verse Political Interes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licy gridlock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merican Political Culture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Political Cultur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An overall set of values shared by most members of society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ements of American Political Culture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iberty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galitarianism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dividualis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aissez-Faire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pulism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Scope of Govern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Fundamental Questio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Is the government responsible for ensuring important societal goals (such as adequate healthcare or fair business practices) are achieved?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overnment Matt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703440" y="1598760"/>
            <a:ext cx="1944360" cy="2430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>
            <a:off x="3284640" y="2014560"/>
            <a:ext cx="2608200" cy="1743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4"/>
          <a:stretch/>
        </p:blipFill>
        <p:spPr>
          <a:xfrm>
            <a:off x="3754440" y="4029120"/>
            <a:ext cx="1689120" cy="2435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5"/>
          <a:stretch/>
        </p:blipFill>
        <p:spPr>
          <a:xfrm>
            <a:off x="6257880" y="1878120"/>
            <a:ext cx="24289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Young People are Politically Apathetic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y?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think they can’t make a differen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think the political system is corrup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don’t car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are the benefits of being informed?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stering Civic Virtu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formed Vo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ctive Political Participation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overn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institutions and processes through which public policies are made for a society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ssential Ques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How should we govern?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What should government do?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5834160" y="3478320"/>
            <a:ext cx="29638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overn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asic Functions of Govern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intain National Defens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vide Public Servi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eserve Ord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ocialize the You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llect Tax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6122880" y="1600200"/>
            <a:ext cx="2602080" cy="1893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3"/>
          <a:stretch/>
        </p:blipFill>
        <p:spPr>
          <a:xfrm>
            <a:off x="4619520" y="3902040"/>
            <a:ext cx="40672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lit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process by which we select our governmental leaders and what policies these leaders pursu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Who gets what, when, and how.”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Lasswell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o: Voters, Candidates, Groups, Part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at: Issues, Services, Benefi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ow: Voting, Lobbying, Protes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lit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Political Participatio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All the activities used by citizens to influence the selection of political leaders and the policies they pursu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: voting, protesting, civil disobedience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mericans’ participation very low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licymak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process by which policy comes into being and evolves over ti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ssential Compone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inkage Institution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licy Agend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licymaking Institu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licy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2"/>
          <a:stretch/>
        </p:blipFill>
        <p:spPr>
          <a:xfrm>
            <a:off x="4951440" y="3265560"/>
            <a:ext cx="3735360" cy="24318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4120200" y="32446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23:58:39Z</dcterms:created>
  <dc:creator>Katie Madison</dc:creator>
  <dc:description/>
  <dc:language>en-US</dc:language>
  <cp:lastModifiedBy>FAdmin</cp:lastModifiedBy>
  <dcterms:modified xsi:type="dcterms:W3CDTF">2012-11-27T01:05:27Z</dcterms:modified>
  <cp:revision>28</cp:revision>
  <dc:subject/>
  <dc:title>Introducing Government in America</dc:title>
</cp:coreProperties>
</file>